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871075"/>
</p:presentation>
</file>

<file path=ppt/commentAuthors.xml><?xml version="1.0" encoding="utf-8"?>
<p:cmAuthorLst xmlns:p="http://schemas.openxmlformats.org/presentationml/2006/main">
  <p:cmAuthor id="0" name="User" initials="U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<Relationship Id="rId14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13-09-03T11:32:57.171000000" idx="1">
    <p:pos x="10" y="10"/>
    <p:text>这一页的练习我看不懂，想让学生做什么？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339640" y="834840"/>
            <a:ext cx="53989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华文彩云"/>
                <a:ea typeface="宋体"/>
              </a:rPr>
              <a:t>圆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1763640" y="227664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圆的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" descr="\\192.168.1.3\临时中转站1_以本人姓名建目录\开发中心-多媒体部\02美术部\晨会文件\04宁煌\人教数学教参\05.png"/>
          <p:cNvPicPr/>
          <p:nvPr/>
        </p:nvPicPr>
        <p:blipFill>
          <a:blip r:embed="rId2"/>
          <a:stretch/>
        </p:blipFill>
        <p:spPr>
          <a:xfrm>
            <a:off x="1173240" y="9367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663840" y="414324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79480" y="435924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900000" y="234936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，做一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十三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84280" y="771480"/>
            <a:ext cx="183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52520" y="33336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五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452520" y="33336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导入新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187280" y="1506600"/>
            <a:ext cx="6786720" cy="50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181160" y="1496880"/>
            <a:ext cx="680076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画圆中感受“圆”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360" y="2205000"/>
            <a:ext cx="4103640" cy="1279440"/>
            <a:chOff x="684360" y="2205000"/>
            <a:chExt cx="4103640" cy="1279440"/>
          </a:xfrm>
        </p:grpSpPr>
        <p:pic>
          <p:nvPicPr>
            <p:cNvPr id="48" name="Picture 19" descr="女天使副本"/>
            <p:cNvPicPr/>
            <p:nvPr/>
          </p:nvPicPr>
          <p:blipFill>
            <a:blip r:embed="rId2"/>
            <a:stretch/>
          </p:blipFill>
          <p:spPr>
            <a:xfrm>
              <a:off x="684360" y="220500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AutoShape 27"/>
            <p:cNvSpPr/>
            <p:nvPr/>
          </p:nvSpPr>
          <p:spPr>
            <a:xfrm>
              <a:off x="2340000" y="2492280"/>
              <a:ext cx="2448000" cy="936720"/>
            </a:xfrm>
            <a:prstGeom prst="wedgeRoundRectCallout">
              <a:avLst>
                <a:gd name="adj1" fmla="val -62777"/>
                <a:gd name="adj2" fmla="val 1440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你能想办法在纸上画一个圆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26920" y="3716280"/>
            <a:ext cx="1667160" cy="1440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948360" y="3789360"/>
            <a:ext cx="1003320" cy="1440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276720" y="4005360"/>
            <a:ext cx="2712960" cy="10792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452520" y="33336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560" y="46530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47760" y="285840"/>
            <a:ext cx="8400960" cy="62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03640" y="2492280"/>
            <a:ext cx="3095640" cy="3095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579600" y="2003400"/>
            <a:ext cx="8184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用圆规画几个不同大小的圆，剪下来，沿着直径折一折，画一画，量一量，会有什么发现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395280" y="1311120"/>
            <a:ext cx="73864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认识半径、直径的特点及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3"/>
          <p:cNvSpPr/>
          <p:nvPr/>
        </p:nvSpPr>
        <p:spPr>
          <a:xfrm>
            <a:off x="2484360" y="6265800"/>
            <a:ext cx="5357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把圆沿任何一条直径对折，两边可以重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"/>
          <p:cNvSpPr/>
          <p:nvPr/>
        </p:nvSpPr>
        <p:spPr>
          <a:xfrm>
            <a:off x="2484360" y="5526000"/>
            <a:ext cx="540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一个圆里的半径有无数条，直径有无数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-106200" y="5919840"/>
            <a:ext cx="9936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同一圆内，所有的半径都相等，所有的直径都相等，直径的长度是半径长度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203640" y="2482920"/>
            <a:ext cx="3095640" cy="3095640"/>
            <a:chOff x="3203640" y="2482920"/>
            <a:chExt cx="3095640" cy="3095640"/>
          </a:xfrm>
        </p:grpSpPr>
        <p:pic>
          <p:nvPicPr>
            <p:cNvPr id="64" name="Group 3" descr=""/>
            <p:cNvPicPr/>
            <p:nvPr/>
          </p:nvPicPr>
          <p:blipFill>
            <a:blip r:embed="rId2"/>
            <a:stretch/>
          </p:blipFill>
          <p:spPr>
            <a:xfrm>
              <a:off x="3203640" y="2482920"/>
              <a:ext cx="3095640" cy="30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Oval 35"/>
            <p:cNvSpPr/>
            <p:nvPr/>
          </p:nvSpPr>
          <p:spPr>
            <a:xfrm>
              <a:off x="4605480" y="3876840"/>
              <a:ext cx="287280" cy="287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Rectangle 2"/>
          <p:cNvSpPr/>
          <p:nvPr/>
        </p:nvSpPr>
        <p:spPr>
          <a:xfrm>
            <a:off x="452520" y="33336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椭圆 9"/>
          <p:cNvSpPr/>
          <p:nvPr/>
        </p:nvSpPr>
        <p:spPr>
          <a:xfrm>
            <a:off x="4284720" y="4735440"/>
            <a:ext cx="142920" cy="144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11"/>
          <p:cNvSpPr/>
          <p:nvPr/>
        </p:nvSpPr>
        <p:spPr>
          <a:xfrm rot="5400000">
            <a:off x="2555640" y="2997360"/>
            <a:ext cx="3600360" cy="3600360"/>
          </a:xfrm>
          <a:prstGeom prst="ellipse">
            <a:avLst/>
          </a:prstGeom>
          <a:noFill/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3"/>
          <p:cNvSpPr/>
          <p:nvPr/>
        </p:nvSpPr>
        <p:spPr>
          <a:xfrm flipV="1">
            <a:off x="4356000" y="2997360"/>
            <a:ext cx="0" cy="1800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4284720" y="44766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9"/>
          <p:cNvSpPr/>
          <p:nvPr/>
        </p:nvSpPr>
        <p:spPr>
          <a:xfrm>
            <a:off x="4433760" y="3305160"/>
            <a:ext cx="113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2520" y="33336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396360" y="1341360"/>
            <a:ext cx="73868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认识圆心、半径作用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-106200" y="1700280"/>
            <a:ext cx="5542920" cy="1279440"/>
            <a:chOff x="-106200" y="1700280"/>
            <a:chExt cx="5542920" cy="1279440"/>
          </a:xfrm>
        </p:grpSpPr>
        <p:pic>
          <p:nvPicPr>
            <p:cNvPr id="75" name="Picture 19" descr="女天使副本"/>
            <p:cNvPicPr/>
            <p:nvPr/>
          </p:nvPicPr>
          <p:blipFill>
            <a:blip r:embed="rId2"/>
            <a:stretch/>
          </p:blipFill>
          <p:spPr>
            <a:xfrm>
              <a:off x="-106200" y="1700280"/>
              <a:ext cx="152316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AutoShape 27"/>
            <p:cNvSpPr/>
            <p:nvPr/>
          </p:nvSpPr>
          <p:spPr>
            <a:xfrm>
              <a:off x="1548720" y="1987560"/>
              <a:ext cx="3888000" cy="936720"/>
            </a:xfrm>
            <a:prstGeom prst="wedgeRoundRectCallout">
              <a:avLst>
                <a:gd name="adj1" fmla="val -58041"/>
                <a:gd name="adj2" fmla="val 1440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圆的中心位置由什么决定的？半径决定圆的什么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348000" y="4437000"/>
            <a:ext cx="5111640" cy="2087640"/>
            <a:chOff x="3348000" y="4437000"/>
            <a:chExt cx="5111640" cy="2087640"/>
          </a:xfrm>
        </p:grpSpPr>
        <p:pic>
          <p:nvPicPr>
            <p:cNvPr id="78" name="" descr=""/>
            <p:cNvPicPr/>
            <p:nvPr/>
          </p:nvPicPr>
          <p:blipFill>
            <a:blip r:embed="rId3"/>
            <a:stretch/>
          </p:blipFill>
          <p:spPr>
            <a:xfrm>
              <a:off x="7031160" y="4726080"/>
              <a:ext cx="14284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AutoShape 27"/>
            <p:cNvSpPr/>
            <p:nvPr/>
          </p:nvSpPr>
          <p:spPr>
            <a:xfrm>
              <a:off x="3348000" y="4437000"/>
              <a:ext cx="3959280" cy="934920"/>
            </a:xfrm>
            <a:prstGeom prst="wedgeRoundRectCallout">
              <a:avLst>
                <a:gd name="adj1" fmla="val 52606"/>
                <a:gd name="adj2" fmla="val 3998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圆心确定了圆的中心位置就确定了。半径决定了圆的大小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50" autoRev="1" fill="remove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5" dur="250" autoRev="1" fill="remove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" dur="250" autoRev="1" fill="remove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5564160" y="2149560"/>
            <a:ext cx="2689200" cy="1279440"/>
            <a:chOff x="5564160" y="2149560"/>
            <a:chExt cx="2689200" cy="1279440"/>
          </a:xfrm>
        </p:grpSpPr>
        <p:grpSp>
          <p:nvGrpSpPr>
            <p:cNvPr id="81" name=""/>
            <p:cNvGrpSpPr/>
            <p:nvPr/>
          </p:nvGrpSpPr>
          <p:grpSpPr>
            <a:xfrm>
              <a:off x="5564160" y="2149560"/>
              <a:ext cx="2689200" cy="1279440"/>
              <a:chOff x="5564160" y="2149560"/>
              <a:chExt cx="2689200" cy="1279440"/>
            </a:xfrm>
          </p:grpSpPr>
          <p:sp>
            <p:nvSpPr>
              <p:cNvPr id="82" name="椭圆 41"/>
              <p:cNvSpPr/>
              <p:nvPr/>
            </p:nvSpPr>
            <p:spPr>
              <a:xfrm>
                <a:off x="5564160" y="2149560"/>
                <a:ext cx="1279440" cy="12794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2d2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TextBox 44"/>
              <p:cNvSpPr/>
              <p:nvPr/>
            </p:nvSpPr>
            <p:spPr>
              <a:xfrm>
                <a:off x="6040440" y="2614680"/>
                <a:ext cx="36504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TextBox 45"/>
              <p:cNvSpPr/>
              <p:nvPr/>
            </p:nvSpPr>
            <p:spPr>
              <a:xfrm>
                <a:off x="6021360" y="2370240"/>
                <a:ext cx="855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6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直接连接符 9226"/>
              <p:cNvSpPr/>
              <p:nvPr/>
            </p:nvSpPr>
            <p:spPr>
              <a:xfrm>
                <a:off x="5564160" y="2819520"/>
                <a:ext cx="1279440" cy="0"/>
              </a:xfrm>
              <a:prstGeom prst="line">
                <a:avLst/>
              </a:prstGeom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Box 51"/>
              <p:cNvSpPr/>
              <p:nvPr/>
            </p:nvSpPr>
            <p:spPr>
              <a:xfrm>
                <a:off x="6900840" y="2774880"/>
                <a:ext cx="1352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r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椭圆 42"/>
            <p:cNvSpPr/>
            <p:nvPr/>
          </p:nvSpPr>
          <p:spPr>
            <a:xfrm>
              <a:off x="6186600" y="2759040"/>
              <a:ext cx="91800" cy="90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328760" y="4122720"/>
            <a:ext cx="1968480" cy="2651760"/>
            <a:chOff x="1328760" y="4122720"/>
            <a:chExt cx="1968480" cy="2651760"/>
          </a:xfrm>
        </p:grpSpPr>
        <p:sp>
          <p:nvSpPr>
            <p:cNvPr id="89" name="矩形 9231"/>
            <p:cNvSpPr/>
            <p:nvPr/>
          </p:nvSpPr>
          <p:spPr>
            <a:xfrm>
              <a:off x="1330200" y="4122720"/>
              <a:ext cx="1967040" cy="196848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1328760" y="4122720"/>
              <a:ext cx="1968480" cy="2651760"/>
              <a:chOff x="1328760" y="4122720"/>
              <a:chExt cx="1968480" cy="2651760"/>
            </a:xfrm>
          </p:grpSpPr>
          <p:sp>
            <p:nvSpPr>
              <p:cNvPr id="91" name="椭圆 9228"/>
              <p:cNvSpPr/>
              <p:nvPr/>
            </p:nvSpPr>
            <p:spPr>
              <a:xfrm>
                <a:off x="1328760" y="4122720"/>
                <a:ext cx="1968480" cy="196848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TextBox 59"/>
              <p:cNvSpPr/>
              <p:nvPr/>
            </p:nvSpPr>
            <p:spPr>
              <a:xfrm>
                <a:off x="2184480" y="4554360"/>
                <a:ext cx="36504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椭圆 61"/>
              <p:cNvSpPr/>
              <p:nvPr/>
            </p:nvSpPr>
            <p:spPr>
              <a:xfrm>
                <a:off x="2274840" y="5079960"/>
                <a:ext cx="92160" cy="921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直接连接符 9233"/>
              <p:cNvSpPr/>
              <p:nvPr/>
            </p:nvSpPr>
            <p:spPr>
              <a:xfrm>
                <a:off x="1328760" y="6091200"/>
                <a:ext cx="0" cy="227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直接连接符 65"/>
              <p:cNvSpPr/>
              <p:nvPr/>
            </p:nvSpPr>
            <p:spPr>
              <a:xfrm>
                <a:off x="3279960" y="6108840"/>
                <a:ext cx="0" cy="22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6" name="直接箭头连接符 9235"/>
              <p:cNvCxnSpPr/>
              <p:nvPr/>
            </p:nvCxnSpPr>
            <p:spPr>
              <a:xfrm flipH="1">
                <a:off x="1329840" y="6221160"/>
                <a:ext cx="68184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97" name="直接箭头连接符 69"/>
              <p:cNvCxnSpPr/>
              <p:nvPr/>
            </p:nvCxnSpPr>
            <p:spPr>
              <a:xfrm>
                <a:off x="2665080" y="6221160"/>
                <a:ext cx="63252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98" name="TextBox 73"/>
              <p:cNvSpPr/>
              <p:nvPr/>
            </p:nvSpPr>
            <p:spPr>
              <a:xfrm>
                <a:off x="1917720" y="5965920"/>
                <a:ext cx="96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0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Box 94"/>
              <p:cNvSpPr/>
              <p:nvPr/>
            </p:nvSpPr>
            <p:spPr>
              <a:xfrm>
                <a:off x="1692360" y="6351480"/>
                <a:ext cx="15238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"/>
          <p:cNvGrpSpPr/>
          <p:nvPr/>
        </p:nvGrpSpPr>
        <p:grpSpPr>
          <a:xfrm>
            <a:off x="4968360" y="4058640"/>
            <a:ext cx="3564360" cy="2046240"/>
            <a:chOff x="4968360" y="4058640"/>
            <a:chExt cx="3564360" cy="2046240"/>
          </a:xfrm>
        </p:grpSpPr>
        <p:grpSp>
          <p:nvGrpSpPr>
            <p:cNvPr id="101" name=""/>
            <p:cNvGrpSpPr/>
            <p:nvPr/>
          </p:nvGrpSpPr>
          <p:grpSpPr>
            <a:xfrm>
              <a:off x="4968360" y="4058640"/>
              <a:ext cx="3564360" cy="2046240"/>
              <a:chOff x="4968360" y="4058640"/>
              <a:chExt cx="3564360" cy="2046240"/>
            </a:xfrm>
          </p:grpSpPr>
          <p:sp>
            <p:nvSpPr>
              <p:cNvPr id="102" name="弦形 9241"/>
              <p:cNvSpPr/>
              <p:nvPr/>
            </p:nvSpPr>
            <p:spPr>
              <a:xfrm rot="17479200">
                <a:off x="5555880" y="4315680"/>
                <a:ext cx="1598760" cy="1532160"/>
              </a:xfrm>
              <a:prstGeom prst="pie">
                <a:avLst/>
              </a:prstGeom>
              <a:noFill/>
              <a:ln w="25560">
                <a:solidFill>
                  <a:srgbClr val="2d2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直接连接符 31"/>
              <p:cNvSpPr/>
              <p:nvPr/>
            </p:nvSpPr>
            <p:spPr>
              <a:xfrm flipH="1">
                <a:off x="4968360" y="5083200"/>
                <a:ext cx="631800" cy="793440"/>
              </a:xfrm>
              <a:prstGeom prst="line">
                <a:avLst/>
              </a:prstGeom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直接连接符 82"/>
              <p:cNvSpPr/>
              <p:nvPr/>
            </p:nvSpPr>
            <p:spPr>
              <a:xfrm flipH="1">
                <a:off x="4968360" y="5876640"/>
                <a:ext cx="2500200" cy="0"/>
              </a:xfrm>
              <a:prstGeom prst="line">
                <a:avLst/>
              </a:prstGeom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直接连接符 85"/>
              <p:cNvSpPr/>
              <p:nvPr/>
            </p:nvSpPr>
            <p:spPr>
              <a:xfrm>
                <a:off x="7153200" y="5087880"/>
                <a:ext cx="325440" cy="795240"/>
              </a:xfrm>
              <a:prstGeom prst="line">
                <a:avLst/>
              </a:prstGeom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直接连接符 39"/>
              <p:cNvSpPr/>
              <p:nvPr/>
            </p:nvSpPr>
            <p:spPr>
              <a:xfrm>
                <a:off x="7153200" y="5087880"/>
                <a:ext cx="15840" cy="795240"/>
              </a:xfrm>
              <a:prstGeom prst="line">
                <a:avLst/>
              </a:prstGeom>
              <a:ln w="25560">
                <a:solidFill>
                  <a:srgbClr val="33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92"/>
              <p:cNvSpPr/>
              <p:nvPr/>
            </p:nvSpPr>
            <p:spPr>
              <a:xfrm>
                <a:off x="6116400" y="4446360"/>
                <a:ext cx="36504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Box 93"/>
              <p:cNvSpPr/>
              <p:nvPr/>
            </p:nvSpPr>
            <p:spPr>
              <a:xfrm>
                <a:off x="7211880" y="5213160"/>
                <a:ext cx="1320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.5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椭圆 62"/>
            <p:cNvSpPr/>
            <p:nvPr/>
          </p:nvSpPr>
          <p:spPr>
            <a:xfrm>
              <a:off x="6279840" y="5037120"/>
              <a:ext cx="90720" cy="90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Box 95"/>
          <p:cNvSpPr/>
          <p:nvPr/>
        </p:nvSpPr>
        <p:spPr>
          <a:xfrm>
            <a:off x="5700600" y="6127920"/>
            <a:ext cx="1757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2"/>
          <p:cNvSpPr/>
          <p:nvPr/>
        </p:nvSpPr>
        <p:spPr>
          <a:xfrm>
            <a:off x="3708360" y="2755800"/>
            <a:ext cx="1449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01"/>
          <p:cNvSpPr/>
          <p:nvPr/>
        </p:nvSpPr>
        <p:spPr>
          <a:xfrm>
            <a:off x="2060640" y="6308640"/>
            <a:ext cx="1071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2"/>
          <p:cNvSpPr/>
          <p:nvPr/>
        </p:nvSpPr>
        <p:spPr>
          <a:xfrm>
            <a:off x="6006960" y="6099120"/>
            <a:ext cx="1481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3.5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3"/>
          <p:cNvSpPr/>
          <p:nvPr/>
        </p:nvSpPr>
        <p:spPr>
          <a:xfrm>
            <a:off x="7299360" y="2759040"/>
            <a:ext cx="792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877480" y="307440"/>
            <a:ext cx="41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练习中深化认识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43"/>
          <p:cNvSpPr/>
          <p:nvPr/>
        </p:nvSpPr>
        <p:spPr>
          <a:xfrm>
            <a:off x="368280" y="1541520"/>
            <a:ext cx="2085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看图填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754280" y="2233440"/>
            <a:ext cx="2864880" cy="1281240"/>
            <a:chOff x="1754280" y="2233440"/>
            <a:chExt cx="2864880" cy="1281240"/>
          </a:xfrm>
        </p:grpSpPr>
        <p:grpSp>
          <p:nvGrpSpPr>
            <p:cNvPr id="118" name=""/>
            <p:cNvGrpSpPr/>
            <p:nvPr/>
          </p:nvGrpSpPr>
          <p:grpSpPr>
            <a:xfrm>
              <a:off x="1754280" y="2233440"/>
              <a:ext cx="2864880" cy="1281240"/>
              <a:chOff x="1754280" y="2233440"/>
              <a:chExt cx="2864880" cy="1281240"/>
            </a:xfrm>
          </p:grpSpPr>
          <p:sp>
            <p:nvSpPr>
              <p:cNvPr id="119" name="TextBox 9227"/>
              <p:cNvSpPr/>
              <p:nvPr/>
            </p:nvSpPr>
            <p:spPr>
              <a:xfrm>
                <a:off x="3271680" y="2786040"/>
                <a:ext cx="13474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椭圆 19"/>
              <p:cNvSpPr/>
              <p:nvPr/>
            </p:nvSpPr>
            <p:spPr>
              <a:xfrm>
                <a:off x="1754280" y="2233440"/>
                <a:ext cx="1279080" cy="1281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2d2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直接连接符 30"/>
              <p:cNvSpPr/>
              <p:nvPr/>
            </p:nvSpPr>
            <p:spPr>
              <a:xfrm flipV="1">
                <a:off x="2422080" y="2408040"/>
                <a:ext cx="423720" cy="447840"/>
              </a:xfrm>
              <a:prstGeom prst="line">
                <a:avLst/>
              </a:prstGeom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Box 9223"/>
              <p:cNvSpPr/>
              <p:nvPr/>
            </p:nvSpPr>
            <p:spPr>
              <a:xfrm>
                <a:off x="2392200" y="2682720"/>
                <a:ext cx="9266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椭圆 22"/>
              <p:cNvSpPr/>
              <p:nvPr/>
            </p:nvSpPr>
            <p:spPr>
              <a:xfrm>
                <a:off x="2376360" y="2828880"/>
                <a:ext cx="91440" cy="90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TextBox 44"/>
            <p:cNvSpPr/>
            <p:nvPr/>
          </p:nvSpPr>
          <p:spPr>
            <a:xfrm>
              <a:off x="2109600" y="2622240"/>
              <a:ext cx="3646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63840" y="414324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51000" y="301680"/>
            <a:ext cx="842004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2685600" y="3074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运用圆设计图案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1476360" y="2565360"/>
            <a:ext cx="5184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请你试着用圆规和直尺画一画下面的图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835280" y="3716280"/>
            <a:ext cx="4392360" cy="1528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63840" y="414324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9480" y="435924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5480" y="457524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7T06:27:2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